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C1A-63F0-4721-B1E8-280E98CF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AE3-DA29-4F2E-B73A-52800D2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3FC-0489-465B-B31C-EE2FB1A7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3D7-4679-42F8-9038-591D45BF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4BC-1EBC-4191-A6C7-E3AFC52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80F-596C-4731-9C7E-A1136F6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8EF-47BF-4B0D-ABD9-A6BA8208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D8C-E294-449D-B045-AAC4DC4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E4C-0E27-48D4-8830-A24CCC3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70D-62C5-48BF-9731-C09CC1F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C0B-9D35-4829-8FF9-8A5EC4EC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5FB-1572-4F64-B6D8-A0A0A88F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A1A5-FF63-4A22-91F6-68C5BC44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4120" y="216000"/>
            <a:ext cx="2370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782640"/>
            <a:ext cx="8594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Get the packet by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it anywhere...fo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Begin to fill out the “Who I Am”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lease hurry. We use time well in t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3160" y="3013200"/>
            <a:ext cx="4743360" cy="356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45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5400" y="6629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BE A PARTICIP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BE PRE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714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BE 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BE PROM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BE POL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828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ITEMS EVERYDAY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2860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0816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LAB NOTEBOOK $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0816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PEN/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08160" y="171468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NOTEBOOK/BI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82880" y="314316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ATEGORIE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75040" y="3144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2920" y="3147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05424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5400" y="528948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5400" y="6329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08160" y="45403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70% QUIZ/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8160" y="5581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0% LAB/HW/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03320" y="3117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214200"/>
            <a:ext cx="6219720" cy="1971720"/>
            <a:chOff x="914400" y="214200"/>
            <a:chExt cx="6219720" cy="1971720"/>
          </a:xfrm>
        </p:grpSpPr>
        <p:sp>
          <p:nvSpPr>
            <p:cNvPr id="81" name=""/>
            <p:cNvSpPr/>
            <p:nvPr/>
          </p:nvSpPr>
          <p:spPr>
            <a:xfrm>
              <a:off x="2050200" y="2142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07800" y="6444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5421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88840" y="62712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17640" y="2649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ATE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SSIGN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22560" y="8571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ATHROOM PAS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1760" y="858960"/>
            <a:ext cx="515160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861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7440" y="76824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30400" y="83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3505320"/>
            <a:ext cx="6219720" cy="1971720"/>
            <a:chOff x="1143000" y="3505320"/>
            <a:chExt cx="6219720" cy="1971720"/>
          </a:xfrm>
        </p:grpSpPr>
        <p:sp>
          <p:nvSpPr>
            <p:cNvPr id="92" name=""/>
            <p:cNvSpPr/>
            <p:nvPr/>
          </p:nvSpPr>
          <p:spPr>
            <a:xfrm>
              <a:off x="2278800" y="350532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6400" y="393552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383328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17440" y="391788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82880" y="36511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GRADE FOR CHEATING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190520"/>
            <a:ext cx="80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WH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PHYSICS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35:13Z</dcterms:created>
  <dc:creator>Frank Noschese</dc:creator>
  <dc:description/>
  <dc:language>en-US</dc:language>
  <cp:lastModifiedBy>Frank Noschese</cp:lastModifiedBy>
  <dcterms:modified xsi:type="dcterms:W3CDTF">2008-09-03T00:43:28Z</dcterms:modified>
  <cp:revision>18</cp:revision>
  <dc:subject/>
  <dc:title>Slide 1</dc:title>
</cp:coreProperties>
</file>